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E79A0-105D-4244-8A43-4A3E4F91E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03A1-72A2-45D2-AAB5-6889A425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3A9E98E-A28E-4453-B48F-5D30F565AB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2BDAE5E-3EC8-4E32-97DB-9E4DEAA57EC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E877C43-98DB-49DC-8F31-A42B058D6CF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870FC8-62F6-4CC0-A403-E938E67FE9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707A6BE-AACA-47C9-B87F-66B44A806F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23887A6-707D-47D6-9A15-7BEA026199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D285484-BA72-4D90-89CB-F1CD876235E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731D8C5-00E9-41A0-A35A-199A1A14529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4E5429C-FA1D-417C-B3F2-493944FBAF6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65661D7-7FCF-4836-B791-427BCD0F5E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3949F-B3CC-4B37-8773-94A8FFDCE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D6DD70B-EDF8-40E8-9E57-905341BD4B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BC9F66D-2C88-4433-832D-2EE73C07FE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1347920-5AAC-4CF3-80CB-A7CB548FA9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C14FE0B-3A59-4223-A4F7-D975BD06E4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6370DC4-E39B-4CB9-9E1F-73269E9665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660B733-751B-4AE3-8653-2DAD876C1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E9F0F0-EBA1-4C99-9BD3-7184EEB6C2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9BBEE5-7B2C-407B-A9DD-C4AF2C43B3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F5F075-1B7B-4FEE-A5AA-E99B80D6FF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439A597-6B90-40F6-9851-14EF909BF4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FD04D-878C-47AF-9C7A-86F0DBCEB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AD969FC-A813-46F8-B68D-2331275B8F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B63F97-8D24-416C-969F-542DB6F95D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B69867-CDA9-4233-9881-4A1F537B3E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6599F3-4421-41C2-9537-0465E8A19E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549D57-1D4C-4063-8105-93EA831304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4CFA2D-DF06-4596-86F4-2E168FC94E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B9692F-EAA0-495E-AC81-6C23F0D5B7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356413-7847-4979-9238-93C1D10287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E4D9AF-B21C-4DBC-A7E1-9534A1B931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097530-ECE3-481A-8760-276BCE5D4B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6B2B1-CE14-488E-92B1-04B14DD4E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D77B65-150E-4091-9CEF-EFA36C1C65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49E39F-ADE9-48DE-88E6-42E211757C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BCC4B3-BDCB-4E0A-81BC-4724C65CE0C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4E71D19-561E-494F-87B6-90CCAE9E3F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02DF35-C9C6-42A1-8371-9FA8E6DA9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CEA6F02-EF2B-494E-ACB8-5B7D962A55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390A382-B8FB-46A9-8C9C-8FD0A4C05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7388A1A-35DC-43B3-9D57-789BF420FB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542340A-44ED-42CD-AD2A-D9776B1D05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8540E3A-33DD-4D83-8853-1B92366954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46B57-97BE-42E8-83B6-1F6AC82F5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FAF6FA8-E268-4D95-8EC2-7DDBB7F1BB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2755DEC-DB77-434E-9BB6-1665F2C686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37635A4-DE67-4273-8916-A55F1BFDDF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40BFF5F-A032-43CD-971F-A73BD01DD9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5D6FB49-F642-4F83-A074-1BA9416B2E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45850-B294-4F70-9845-2293708AC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788E9-78F3-4492-AAB5-8817AF100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460C3-3168-412E-8AE8-1A7E1069B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9BFD-6727-48F6-A346-8401D4A08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36022-A548-4D47-9201-E8293FF9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8B30-27D0-492C-B783-83AC87B4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BE6D2-5351-4948-9E40-25F9768D0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64838-A3DB-4B07-A418-6A4DB63D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667F8-F2DA-4003-B648-F4B141D04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4AC90-6B87-4701-B382-2E838F779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36223-A303-4431-A085-4C52C9972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415BB2-CB85-4616-B2F3-CD260F2DC7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48073B-258E-4C43-9AA1-1BEC36C2D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62E2C4-BB05-42FB-8F8E-73CC04E0A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30428-6E3B-4D54-9265-C9CB7AAC6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A66E4-3637-498F-9A9E-00730D7DAB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0DACD-920F-4B4A-8D5F-368B5BFE9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2D464F-36F5-4345-AD3D-EE5F5466D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A44C9-3C2E-4C63-BFE7-6327AC878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D06BD-BE93-4386-9528-8DECA754A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A6094-9527-4844-BDBB-4E2249091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53A4D-1706-4454-B3C6-DB936FDD7D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E7B34-46CA-4341-B190-6D8380B3E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445998-EF7D-453F-8F8F-50C5F89B1F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DB9E4A3-E4A4-4EBC-8074-3BA14A7B3FB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680F09-190C-4CC7-B63E-996AD7A75B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1388907-FD37-4A8F-ACFD-84E36BA7268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D1545-6573-4B2C-BC90-A01D2817C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FC2FC7-4BDD-4EEE-AA74-5AF2C19607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2494490-86C4-4590-982C-EC9EAA4770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9EFC363-28C4-4226-93C1-4EF116A574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4DE8CC-A20A-462D-98DE-AADA386AA18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4CA884C-2856-490C-835F-743011DD231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9E6A1F-BF10-4A68-9B94-CF7C00228E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34D11E-71AB-4701-BEED-51BFE88896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A4D01C1-CBB5-498A-B665-102AF3B1B0F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2D89D92-0966-411D-B06E-7AC1F761B38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943E8-729B-434F-8905-D53DD689B0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0D7A-2DF4-446A-9108-9A071C7D5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8C813-09FD-445B-A8A7-F8F0161FF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3886D-E7C0-492D-99B8-895FE8DF81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24E1A2-BD42-4750-9C54-E2B0C71490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BEADE-DE24-429B-9317-74151019F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CA200-E321-40A2-BD94-3802A69A1C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FF831-D77B-430B-B383-F38EA9BE9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AE4A8-03A3-4999-A4AC-1AADE8F982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BF758-7CB2-4439-AEE8-2C009CD9E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212D15-E840-4915-B0DD-EF055F9B8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CA7600-047F-4FF7-A0EC-517926637F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4118-F879-4EC8-B37C-C2CEA24D3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4D239C-CFC0-4660-8DE0-DE9DF09E57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B685E7-8AC9-4735-8302-D043A60652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CABCA-A372-4E18-AAA8-664A7B5CC6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89513-9A10-4B69-9281-5476F7340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B1CC1A-82DA-401E-A056-0782D005B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DC828-0933-4C64-98DD-47F3455B9D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8B061-260C-4B91-B2E4-48D7DBF59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5E6CB9-CBB6-48A3-BEDF-E566AE4A1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F4E32B-3953-4E7D-93BE-643BE0492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3CAD8-4911-4C96-85B5-C2D04AE2A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C101-A71C-4F08-859A-6601A528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7F6BE-B21E-466C-97C7-0C288E2C0D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6BDCE3-0C9A-480F-B7A7-384DDB346B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713065-CF0F-4EA0-9C38-C1D179B828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02016D-0EA1-4E6C-958C-BA7B0DA643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4A3A80-3631-4201-8690-4B4EAA3F9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48602-1A71-48A4-94AB-A8DC1D9C5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73B6E-76B7-407A-A595-561F57364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474E52-C252-4FA9-A850-7A274EDF5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64DFB5-1E29-4B12-9F67-41E5CD3B7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2A6EE6-84D2-42F5-811E-30AACD08F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9AEA3-02CF-461D-BE58-A837F43D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5CD08-54FD-4996-B3D8-3EAD53DD4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D564C-AE32-484F-83C6-FB4180759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B0E47-B6ED-40F2-8C4C-61C122E9F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25DB0-9729-4E6D-A2D1-1220765A43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20149-7B2B-42DE-9FD9-50B345168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187A75-AA73-4776-8EA0-65F058436F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B4F4C-A1A8-4D94-9C31-7285EDE8E4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3E570D-82A2-4740-82D9-78B8D689F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60FB22-3312-4127-8EA4-95BE0C8D7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828C9A-6676-4363-AFDC-CA1008E259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2866-D21A-40C9-868F-48BD92566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F972A2-E674-4F07-8091-7E6A1D7CCB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1DAD8-DC74-4F22-AC8B-F1CAF1E205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656CAE-D29C-4FAE-8590-7ADAFAEE2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9719EE-5308-4C55-910B-52B2C869F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53E81B-2DF2-4786-900E-E9AE64A5A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B01272-335F-413A-91A1-81472AC1B7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18B321-A505-42B2-B35B-AD42165042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3B09C50-811D-42C0-AEEA-A11F401C929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07C466-A384-4B22-9473-096F2F3B9E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ab2627"/>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3AAF77C-98FB-4D8D-BB69-AE53E2660D7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 name="Rectangle 8"/>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7" name="Rectangle 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8" name="Straight Connector 9"/>
          <p:cNvSpPr/>
          <p:nvPr/>
        </p:nvSpPr>
        <p:spPr>
          <a:xfrm>
            <a:off x="152280" y="1276200"/>
            <a:ext cx="8832960" cy="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 name="Oval 14"/>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5DC8-C122-40F4-923F-048DA0C80273}"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59" name="Rectangle 25"/>
          <p:cNvSpPr/>
          <p:nvPr/>
        </p:nvSpPr>
        <p:spPr>
          <a:xfrm>
            <a:off x="152280" y="152280"/>
            <a:ext cx="8832960" cy="30168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0" name="Rectangle 26"/>
          <p:cNvSpPr/>
          <p:nvPr/>
        </p:nvSpPr>
        <p:spPr>
          <a:xfrm>
            <a:off x="152280" y="609480"/>
            <a:ext cx="2743200" cy="58676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1" name="Rectangle 2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3" name="Oval 29"/>
          <p:cNvSpPr/>
          <p:nvPr/>
        </p:nvSpPr>
        <p:spPr>
          <a:xfrm>
            <a:off x="1390680" y="324000"/>
            <a:ext cx="419040" cy="4190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4" name="Rectangle 30"/>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F15D-7A5A-4392-9CB4-A72E3B5AE721}"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0" name="Rectangle 8"/>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1" name="Rectangle 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2" name="Straight Connector 9"/>
          <p:cNvSpPr/>
          <p:nvPr/>
        </p:nvSpPr>
        <p:spPr>
          <a:xfrm>
            <a:off x="152280" y="1276200"/>
            <a:ext cx="8832960" cy="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4" name="Oval 14"/>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51AF-8C53-4DBD-BFBB-36A1ED7BDD9B}"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0" name="Rectangle 24"/>
          <p:cNvSpPr/>
          <p:nvPr/>
        </p:nvSpPr>
        <p:spPr>
          <a:xfrm>
            <a:off x="146160" y="6391440"/>
            <a:ext cx="8832600" cy="30924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1" name="Rectangle 25"/>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2" name="Straight Connector 26"/>
          <p:cNvSpPr/>
          <p:nvPr/>
        </p:nvSpPr>
        <p:spPr>
          <a:xfrm>
            <a:off x="7143840" y="155520"/>
            <a:ext cx="0" cy="624528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4" name="Oval 28"/>
          <p:cNvSpPr/>
          <p:nvPr/>
        </p:nvSpPr>
        <p:spPr>
          <a:xfrm>
            <a:off x="6934320" y="3021120"/>
            <a:ext cx="420480" cy="4190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C3A9-19D9-4ABE-A2DD-D74803737D35}"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4" name="Rectangle 24"/>
          <p:cNvSpPr/>
          <p:nvPr/>
        </p:nvSpPr>
        <p:spPr>
          <a:xfrm>
            <a:off x="146160" y="6391440"/>
            <a:ext cx="8832600" cy="30924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5" name="Straight Connector 25"/>
          <p:cNvSpPr/>
          <p:nvPr/>
        </p:nvSpPr>
        <p:spPr>
          <a:xfrm>
            <a:off x="155520" y="2419200"/>
            <a:ext cx="8832960" cy="0"/>
          </a:xfrm>
          <a:prstGeom prst="line">
            <a:avLst/>
          </a:prstGeom>
          <a:ln w="1152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56" name="Rectangle 26"/>
          <p:cNvSpPr/>
          <p:nvPr/>
        </p:nvSpPr>
        <p:spPr>
          <a:xfrm>
            <a:off x="152280" y="15228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8" name="Oval 28"/>
          <p:cNvSpPr/>
          <p:nvPr/>
        </p:nvSpPr>
        <p:spPr>
          <a:xfrm>
            <a:off x="4362480" y="220968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785E-D8BB-4B11-B32A-3333E1FCAD2A}"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4" name="Rectangle 8"/>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5" name="Rectangle 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6" name="Straight Connector 9"/>
          <p:cNvSpPr/>
          <p:nvPr/>
        </p:nvSpPr>
        <p:spPr>
          <a:xfrm>
            <a:off x="152280" y="1276200"/>
            <a:ext cx="8832960" cy="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8" name="Oval 14"/>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8BCB-6279-4314-B5E3-9082CAA5C288}"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5" name="Rectangle 25"/>
          <p:cNvSpPr/>
          <p:nvPr/>
        </p:nvSpPr>
        <p:spPr>
          <a:xfrm>
            <a:off x="155520" y="142920"/>
            <a:ext cx="8832960" cy="2139840"/>
          </a:xfrm>
          <a:prstGeom prst="rect">
            <a:avLst/>
          </a:prstGeom>
          <a:solidFill>
            <a:srgbClr val="3891a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6" name="Rectangle 26"/>
          <p:cNvSpPr/>
          <p:nvPr/>
        </p:nvSpPr>
        <p:spPr>
          <a:xfrm>
            <a:off x="146160" y="6391440"/>
            <a:ext cx="8832600" cy="30924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7" name="Rectangle 27"/>
          <p:cNvSpPr/>
          <p:nvPr/>
        </p:nvSpPr>
        <p:spPr>
          <a:xfrm>
            <a:off x="152280" y="15228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58" name="Straight Connector 28"/>
          <p:cNvSpPr/>
          <p:nvPr/>
        </p:nvSpPr>
        <p:spPr>
          <a:xfrm>
            <a:off x="152280" y="2438280"/>
            <a:ext cx="8832960" cy="0"/>
          </a:xfrm>
          <a:prstGeom prst="line">
            <a:avLst/>
          </a:prstGeom>
          <a:ln w="1152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60" name="Oval 30"/>
          <p:cNvSpPr/>
          <p:nvPr/>
        </p:nvSpPr>
        <p:spPr>
          <a:xfrm>
            <a:off x="4362480" y="220968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43BD-FD0D-4627-AC39-34C90852CC2E}"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6" name="Rectangle 8"/>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7" name="Rectangle 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08" name="Straight Connector 9"/>
          <p:cNvSpPr/>
          <p:nvPr/>
        </p:nvSpPr>
        <p:spPr>
          <a:xfrm>
            <a:off x="152280" y="1276200"/>
            <a:ext cx="8832960" cy="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10" name="Oval 14"/>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11" name="Straight Connector 19"/>
          <p:cNvSpPr/>
          <p:nvPr/>
        </p:nvSpPr>
        <p:spPr>
          <a:xfrm flipV="1">
            <a:off x="4562640" y="1576080"/>
            <a:ext cx="9360" cy="4817880"/>
          </a:xfrm>
          <a:prstGeom prst="line">
            <a:avLst/>
          </a:prstGeom>
          <a:ln w="9360">
            <a:solidFill>
              <a:srgbClr val="4f271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08D9-C08F-4E2A-8438-8BEFCAAA5EDB}"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dec9"/>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4f271c"/>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58" name="Rectangle 25"/>
          <p:cNvSpPr/>
          <p:nvPr/>
        </p:nvSpPr>
        <p:spPr>
          <a:xfrm>
            <a:off x="152280" y="1371600"/>
            <a:ext cx="8832960" cy="9144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59" name="Rectangle 26"/>
          <p:cNvSpPr/>
          <p:nvPr/>
        </p:nvSpPr>
        <p:spPr>
          <a:xfrm>
            <a:off x="146160" y="6391440"/>
            <a:ext cx="8832600" cy="31104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0" name="Straight Connector 27"/>
          <p:cNvSpPr/>
          <p:nvPr/>
        </p:nvSpPr>
        <p:spPr>
          <a:xfrm>
            <a:off x="152280" y="1279440"/>
            <a:ext cx="8832960" cy="0"/>
          </a:xfrm>
          <a:prstGeom prst="line">
            <a:avLst/>
          </a:prstGeom>
          <a:ln w="1152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261" name="Rectangle 28"/>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3" name="Oval 30"/>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F965-962D-4486-BBD5-00D8333092CB}"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09" name="Rectangle 8"/>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0" name="Rectangle 7"/>
          <p:cNvSpPr/>
          <p:nvPr/>
        </p:nvSpPr>
        <p:spPr>
          <a:xfrm>
            <a:off x="152280" y="15552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1" name="Straight Connector 9"/>
          <p:cNvSpPr/>
          <p:nvPr/>
        </p:nvSpPr>
        <p:spPr>
          <a:xfrm>
            <a:off x="152280" y="1276200"/>
            <a:ext cx="8832960" cy="0"/>
          </a:xfrm>
          <a:prstGeom prst="line">
            <a:avLst/>
          </a:prstGeom>
          <a:ln w="936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3" name="Oval 14"/>
          <p:cNvSpPr/>
          <p:nvPr/>
        </p:nvSpPr>
        <p:spPr>
          <a:xfrm>
            <a:off x="4362480" y="1050840"/>
            <a:ext cx="419040" cy="4208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CE4C-5B6E-4420-A677-4A4A19CA978F}"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59" name="Rectangle 24"/>
          <p:cNvSpPr/>
          <p:nvPr/>
        </p:nvSpPr>
        <p:spPr>
          <a:xfrm>
            <a:off x="146160" y="6391440"/>
            <a:ext cx="8832600" cy="30924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60" name="Rectangle 25"/>
          <p:cNvSpPr/>
          <p:nvPr/>
        </p:nvSpPr>
        <p:spPr>
          <a:xfrm>
            <a:off x="152280" y="15876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2BFF-995C-4E23-B4CC-B08541CCFC4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7" name="Rectangle 25"/>
          <p:cNvSpPr/>
          <p:nvPr/>
        </p:nvSpPr>
        <p:spPr>
          <a:xfrm>
            <a:off x="152280" y="609480"/>
            <a:ext cx="2743200" cy="586764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8" name="Rectangle 26"/>
          <p:cNvSpPr/>
          <p:nvPr/>
        </p:nvSpPr>
        <p:spPr>
          <a:xfrm>
            <a:off x="152280" y="152280"/>
            <a:ext cx="8832960" cy="6546960"/>
          </a:xfrm>
          <a:prstGeom prst="rect">
            <a:avLst/>
          </a:prstGeom>
          <a:noFill/>
          <a:ln w="9360">
            <a:solidFill>
              <a:srgbClr val="ab262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09" name="Straight Connector 27"/>
          <p:cNvSpPr/>
          <p:nvPr/>
        </p:nvSpPr>
        <p:spPr>
          <a:xfrm>
            <a:off x="152280" y="533520"/>
            <a:ext cx="8832960" cy="0"/>
          </a:xfrm>
          <a:prstGeom prst="line">
            <a:avLst/>
          </a:prstGeom>
          <a:ln w="11520">
            <a:solidFill>
              <a:srgbClr val="ab2627"/>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Neutraface Display Medium"/>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11" name="Oval 29"/>
          <p:cNvSpPr/>
          <p:nvPr/>
        </p:nvSpPr>
        <p:spPr>
          <a:xfrm>
            <a:off x="1390680" y="324000"/>
            <a:ext cx="419040" cy="419040"/>
          </a:xfrm>
          <a:prstGeom prst="ellipse">
            <a:avLst/>
          </a:prstGeom>
          <a:solidFill>
            <a:srgbClr val="ffffff"/>
          </a:solidFill>
          <a:ln cap="rnd" w="50760">
            <a:solidFill>
              <a:srgbClr val="ab262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12" name="Rectangle 30"/>
          <p:cNvSpPr/>
          <p:nvPr/>
        </p:nvSpPr>
        <p:spPr>
          <a:xfrm>
            <a:off x="149400" y="6388200"/>
            <a:ext cx="8832600" cy="309600"/>
          </a:xfrm>
          <a:prstGeom prst="rect">
            <a:avLst/>
          </a:prstGeom>
          <a:solidFill>
            <a:srgbClr val="c32d2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Georgia"/>
              </a:rPr>
              <a:t>Click to edit the title text format</a:t>
            </a:r>
            <a:endParaRPr b="0" lang="en-US" sz="3300" spc="-1" strike="noStrike">
              <a:solidFill>
                <a:srgbClr val="ab2627"/>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c32d2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4aa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64305"/>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ab26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4F76-ADF9-4157-A436-B8E3856B609B}" type="slidenum">
              <a:rPr b="0" lang="en-US" sz="1600" spc="-1" strike="noStrike">
                <a:solidFill>
                  <a:srgbClr val="ab2627"/>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utraface Display Medium"/>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mailto:you@yahoo.com"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us.ard.yahoo.com/SIG=15qlnmuid/M=650008.13636315.13679591.11473400/D=regst/S=150001465:HEAD/Y=YAHOO/EXP=1273001580/L=D_fHzEKjqboP_KecS.BIKwFyQda7skvgWksADz0g/B=9sgDJWKJiTI-/J=1272994380016866/K=XKbeFh4hcWWbGFZhK.tKoA/A=5826911/R=0/SIG=1107gluf6/*http://mail.yahoo.com?.intl=u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name@provider.domain" TargetMode="External"/><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f271c"/>
                </a:solidFill>
                <a:latin typeface="Neutraface Display Medium"/>
              </a:rPr>
              <a:t>HUNTINGTON BEACH PUBLIC LIBRARY</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891a7"/>
                </a:solidFill>
                <a:latin typeface="Neutraface Display Drafting"/>
              </a:rPr>
              <a:t>Email Basics</a:t>
            </a:r>
            <a:endParaRPr b="0" lang="en-US" sz="4200" spc="-1" strike="noStrike">
              <a:solidFill>
                <a:srgbClr val="ab2627"/>
              </a:solidFill>
              <a:latin typeface="Georgia"/>
            </a:endParaRPr>
          </a:p>
        </p:txBody>
      </p:sp>
      <p:pic>
        <p:nvPicPr>
          <p:cNvPr id="608" name="Picture 5" descr="C:\Documents and Settings\HernanLi\Local Settings\Temporary Internet Files\Content.IE5\T193LHAD\MP900409258[1].jpg"/>
          <p:cNvPicPr/>
          <p:nvPr/>
        </p:nvPicPr>
        <p:blipFill>
          <a:blip r:embed="rId1"/>
          <a:stretch/>
        </p:blipFill>
        <p:spPr>
          <a:xfrm>
            <a:off x="3048120" y="3352680"/>
            <a:ext cx="289548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Sending an email</a:t>
            </a:r>
            <a:endParaRPr b="0" lang="en-US" sz="4000" spc="-1" strike="noStrike">
              <a:solidFill>
                <a:srgbClr val="ab2627"/>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ommunication can be tough with written correspondence.  No body language or facial cues to help.</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Err on the side of too formal</a:t>
            </a:r>
            <a:endParaRPr b="0" lang="en-US" sz="2700" spc="-1" strike="noStrike">
              <a:solidFill>
                <a:srgbClr val="000000"/>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Punctuation &amp; spelling</a:t>
            </a:r>
            <a:endParaRPr b="0" lang="en-US" sz="2200" spc="-1" strike="noStrike">
              <a:solidFill>
                <a:srgbClr val="4f271c"/>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Greeting &amp; closing signature</a:t>
            </a:r>
            <a:endParaRPr b="0" lang="en-US" sz="2200" spc="-1" strike="noStrike">
              <a:solidFill>
                <a:srgbClr val="4f271c"/>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ATTACH a file from a flash drive</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lick on SEND to mail your letter</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Message will now appear in your SENT fold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Sending an email</a:t>
            </a:r>
            <a:endParaRPr b="0" lang="en-US" sz="4000" spc="-1" strike="noStrike">
              <a:solidFill>
                <a:srgbClr val="ab2627"/>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Once an email is sent, you cannot stop it or take it back</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pell-check &amp; proofread!</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heck your SENT box now.</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Neutraface Display Medium"/>
              </a:rPr>
              <a:t>DRAFT EMAILS &amp; SAVING FOR LATER</a:t>
            </a:r>
            <a:endParaRPr b="0" lang="en-US" sz="3300" spc="-1" strike="noStrike">
              <a:solidFill>
                <a:srgbClr val="ab2627"/>
              </a:solidFill>
              <a:latin typeface="Georgia"/>
            </a:endParaRPr>
          </a:p>
        </p:txBody>
      </p:sp>
      <p:sp>
        <p:nvSpPr>
          <p:cNvPr id="633" name="PlaceHolder 2"/>
          <p:cNvSpPr>
            <a:spLocks noGrp="1"/>
          </p:cNvSpPr>
          <p:nvPr>
            <p:ph/>
          </p:nvPr>
        </p:nvSpPr>
        <p:spPr>
          <a:xfrm>
            <a:off x="301320" y="1523520"/>
            <a:ext cx="8534520" cy="4599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Drafts: When creating an e-mail the computer will automatically save your work periodically. If for any reason you should be interrupted (i.e. lapse in internet connection) you can retrieve your latest work what is called the DRAFT BOX.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Receiving email</a:t>
            </a:r>
            <a:endParaRPr b="0" lang="en-US" sz="4000" spc="-1" strike="noStrike">
              <a:solidFill>
                <a:srgbClr val="ab2627"/>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If you have any messages you should see them listed on the screen or in your Inbox</a:t>
            </a:r>
            <a:endParaRPr b="0" lang="en-US" sz="2700" spc="-1" strike="noStrike">
              <a:solidFill>
                <a:srgbClr val="000000"/>
              </a:solidFill>
              <a:latin typeface="Georgia"/>
            </a:endParaRPr>
          </a:p>
          <a:p>
            <a:pPr marL="256320" indent="-2563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At the top of each message is a header with information about the sender, date, and routing of each message. </a:t>
            </a:r>
            <a:br>
              <a:rPr sz="2700"/>
            </a:br>
            <a:r>
              <a:rPr b="0" lang="en-US" sz="2700" spc="-1" strike="noStrike">
                <a:solidFill>
                  <a:srgbClr val="000000"/>
                </a:solidFill>
                <a:latin typeface="Neutraface Display Medium"/>
              </a:rPr>
              <a:t>From: dwalker@surfcity-hb.org (Danielle Walker)</a:t>
            </a:r>
            <a:br>
              <a:rPr sz="2700"/>
            </a:br>
            <a:r>
              <a:rPr b="0" lang="en-US" sz="2700" spc="-1" strike="noStrike">
                <a:solidFill>
                  <a:srgbClr val="000000"/>
                </a:solidFill>
                <a:latin typeface="Neutraface Display Medium"/>
              </a:rPr>
              <a:t>To: </a:t>
            </a:r>
            <a:r>
              <a:rPr b="0" lang="en-US" sz="2700" spc="-1" strike="noStrike" u="sng">
                <a:solidFill>
                  <a:srgbClr val="8dc765"/>
                </a:solidFill>
                <a:uFillTx/>
                <a:latin typeface="Neutraface Display Medium"/>
                <a:hlinkClick r:id="rId1"/>
              </a:rPr>
              <a:t>you@yahoo.com</a:t>
            </a:r>
            <a:endParaRPr b="0" lang="en-US" sz="2700" spc="-1" strike="noStrike">
              <a:solidFill>
                <a:srgbClr val="000000"/>
              </a:solidFill>
              <a:latin typeface="Georgia"/>
            </a:endParaRPr>
          </a:p>
          <a:p>
            <a:pPr marL="256320" indent="-2563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     </a:t>
            </a:r>
            <a:r>
              <a:rPr b="0" lang="en-US" sz="2700" spc="-1" strike="noStrike">
                <a:solidFill>
                  <a:srgbClr val="000000"/>
                </a:solidFill>
                <a:latin typeface="Neutraface Display Medium"/>
              </a:rPr>
              <a:t>CC: </a:t>
            </a:r>
            <a:br>
              <a:rPr sz="2700"/>
            </a:br>
            <a:r>
              <a:rPr b="0" lang="en-US" sz="2700" spc="-1" strike="noStrike">
                <a:solidFill>
                  <a:srgbClr val="000000"/>
                </a:solidFill>
                <a:latin typeface="Neutraface Display Medium"/>
              </a:rPr>
              <a:t>Subject: Email Basics class</a:t>
            </a:r>
            <a:br>
              <a:rPr sz="2700"/>
            </a:br>
            <a:r>
              <a:rPr b="0" lang="en-US" sz="2700" spc="-1" strike="noStrike">
                <a:solidFill>
                  <a:srgbClr val="000000"/>
                </a:solidFill>
                <a:latin typeface="Neutraface Display Medium"/>
              </a:rPr>
              <a:t>Date: Mon, 3 May 2010 8:31 PST</a:t>
            </a:r>
            <a:br>
              <a:rPr sz="2700"/>
            </a:b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Replying to an email</a:t>
            </a:r>
            <a:endParaRPr b="0" lang="en-US" sz="4000" spc="-1" strike="noStrike">
              <a:solidFill>
                <a:srgbClr val="ab2627"/>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Reply vs Reply All</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When you click on Reply, your message will automatically be sent to the person who sent you the email (FROM field in header.)</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When you click on Reply All, your message will automatically be sent to the person who sent you the email AND everyone in the TO and CC fields in the head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Forwarding an email</a:t>
            </a:r>
            <a:endParaRPr b="0" lang="en-US" sz="4000" spc="-1" strike="noStrike">
              <a:solidFill>
                <a:srgbClr val="ab2627"/>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When you click on FORWARD, you may share the email you’ve received by sending it to other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You may add your own message before send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Opening attachments</a:t>
            </a:r>
            <a:endParaRPr b="0" lang="en-US" sz="4000" spc="-1" strike="noStrike">
              <a:solidFill>
                <a:srgbClr val="ab2627"/>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Usually photos or document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If you don’t know the sender, do NOT open the attachment</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AVE vs OPEN file dialog box</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4920" y="380880"/>
            <a:ext cx="853416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2627"/>
                </a:solidFill>
                <a:latin typeface="Neutraface Display Drafting"/>
              </a:rPr>
              <a:t>Deleting email &amp;trash can</a:t>
            </a:r>
            <a:endParaRPr b="0" lang="en-US" sz="3600" spc="-1" strike="noStrike">
              <a:solidFill>
                <a:srgbClr val="ab2627"/>
              </a:solidFill>
              <a:latin typeface="Georgia"/>
            </a:endParaRPr>
          </a:p>
        </p:txBody>
      </p:sp>
      <p:sp>
        <p:nvSpPr>
          <p:cNvPr id="643" name=""/>
          <p:cNvSpPr txBox="1"/>
          <p:nvPr/>
        </p:nvSpPr>
        <p:spPr>
          <a:xfrm>
            <a:off x="301320" y="1527120"/>
            <a:ext cx="8504280" cy="4572000"/>
          </a:xfrm>
          <a:prstGeom prst="rect">
            <a:avLst/>
          </a:prstGeom>
          <a:noFill/>
          <a:ln w="0">
            <a:noFill/>
          </a:ln>
        </p:spPr>
        <p:txBody>
          <a:bodyPr anchor="t">
            <a:normAutofit fontScale="96000"/>
          </a:bodyPr>
          <a:p>
            <a:pPr marL="261720" indent="-2617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Once you’ve read an email, you must decide if you want to save it or delete it.</a:t>
            </a:r>
            <a:endParaRPr b="0" lang="en-US" sz="2700" spc="-1" strike="noStrike">
              <a:solidFill>
                <a:srgbClr val="000000"/>
              </a:solidFill>
              <a:latin typeface="Georgia"/>
            </a:endParaRPr>
          </a:p>
          <a:p>
            <a:pPr marL="261720" indent="-2617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lick on delete to send the email to the TRASH CAN</a:t>
            </a:r>
            <a:endParaRPr b="0" lang="en-US" sz="2700" spc="-1" strike="noStrike">
              <a:solidFill>
                <a:srgbClr val="000000"/>
              </a:solidFill>
              <a:latin typeface="Georgia"/>
            </a:endParaRPr>
          </a:p>
          <a:p>
            <a:pPr marL="261720" indent="-2617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The message disappears from your list of messages but is not truly deleted yet, so if you make a mistake you can get the message back. </a:t>
            </a:r>
            <a:endParaRPr b="0" lang="en-US" sz="2700" spc="-1" strike="noStrike">
              <a:solidFill>
                <a:srgbClr val="000000"/>
              </a:solidFill>
              <a:latin typeface="Georgia"/>
            </a:endParaRPr>
          </a:p>
          <a:p>
            <a:pPr marL="261720" indent="-26172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Just look in the Trash folder. However, once you exit the program, the messages are usually deleted for good.</a:t>
            </a:r>
            <a:br>
              <a:rPr sz="2700"/>
            </a:br>
            <a:r>
              <a:rPr b="0" lang="en-US" sz="2700" spc="-1" strike="noStrike">
                <a:solidFill>
                  <a:srgbClr val="000000"/>
                </a:solidFill>
                <a:latin typeface="Neutraface Display Medium"/>
              </a:rPr>
              <a:t>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netiquette</a:t>
            </a:r>
            <a:endParaRPr b="0" lang="en-US" sz="4000" spc="-1" strike="noStrike">
              <a:solidFill>
                <a:srgbClr val="ab2627"/>
              </a:solidFill>
              <a:latin typeface="Georgia"/>
            </a:endParaRPr>
          </a:p>
        </p:txBody>
      </p:sp>
      <p:sp>
        <p:nvSpPr>
          <p:cNvPr id="64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ommon abbreviation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Emoticons aka smilie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6" name="Picture 7" descr=""/>
          <p:cNvPicPr/>
          <p:nvPr/>
        </p:nvPicPr>
        <p:blipFill>
          <a:blip r:embed="rId1"/>
          <a:stretch/>
        </p:blipFill>
        <p:spPr>
          <a:xfrm>
            <a:off x="457200" y="2895480"/>
            <a:ext cx="4476600" cy="273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Privacy, viruses, &amp; spam</a:t>
            </a:r>
            <a:endParaRPr b="0" lang="en-US" sz="4000" spc="-1" strike="noStrike">
              <a:solidFill>
                <a:srgbClr val="ab2627"/>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Privacy: CC vs BCC</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Viruses: Never open attachments from unknown sender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afety: Never send personal financial information via email, even if it looks like a legitimate request from your bank or financial institution.</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pam: unsolicited commercial email</a:t>
            </a:r>
            <a:endParaRPr b="0" lang="en-US" sz="2700" spc="-1" strike="noStrike">
              <a:solidFill>
                <a:srgbClr val="000000"/>
              </a:solidFill>
              <a:latin typeface="Georgia"/>
            </a:endParaRPr>
          </a:p>
          <a:p>
            <a:pPr lvl="1" marL="54756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	</a:t>
            </a:r>
            <a:r>
              <a:rPr b="0" lang="en-US" sz="2200" spc="-1" strike="noStrike">
                <a:solidFill>
                  <a:srgbClr val="4f271c"/>
                </a:solidFill>
                <a:latin typeface="Neutraface Display Medium"/>
              </a:rPr>
              <a:t>Delete</a:t>
            </a:r>
            <a:endParaRPr b="0" lang="en-US" sz="2200" spc="-1" strike="noStrike">
              <a:solidFill>
                <a:srgbClr val="4f271c"/>
              </a:solidFill>
              <a:latin typeface="Georgia"/>
            </a:endParaRPr>
          </a:p>
          <a:p>
            <a:pPr lvl="1" marL="54756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	</a:t>
            </a:r>
            <a:r>
              <a:rPr b="0" lang="en-US" sz="2200" spc="-1" strike="noStrike">
                <a:solidFill>
                  <a:srgbClr val="4f271c"/>
                </a:solidFill>
                <a:latin typeface="Neutraface Display Medium"/>
              </a:rPr>
              <a:t>Click on Report Spam</a:t>
            </a:r>
            <a:endParaRPr b="0" lang="en-US" sz="2200" spc="-1" strike="noStrike">
              <a:solidFill>
                <a:srgbClr val="4f271c"/>
              </a:solidFill>
              <a:latin typeface="Georgia"/>
            </a:endParaRPr>
          </a:p>
          <a:p>
            <a:pPr lvl="1" marL="54756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    </a:t>
            </a:r>
            <a:r>
              <a:rPr b="0" lang="en-US" sz="2200" spc="-1" strike="noStrike">
                <a:solidFill>
                  <a:srgbClr val="4f271c"/>
                </a:solidFill>
                <a:latin typeface="Neutraface Display Medium"/>
              </a:rPr>
              <a:t>SPAM BOX on Yahoo</a:t>
            </a:r>
            <a:endParaRPr b="0" lang="en-US" sz="2200" spc="-1" strike="noStrike">
              <a:solidFill>
                <a:srgbClr val="4f271c"/>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Neutraface Display Drafting"/>
              </a:rPr>
              <a:t>What is email?</a:t>
            </a:r>
            <a:endParaRPr b="0" lang="en-US" sz="3300" spc="-1" strike="noStrike">
              <a:solidFill>
                <a:srgbClr val="ab2627"/>
              </a:solidFill>
              <a:latin typeface="Georgia"/>
            </a:endParaRPr>
          </a:p>
        </p:txBody>
      </p:sp>
      <p:sp>
        <p:nvSpPr>
          <p:cNvPr id="61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hort for electronic mail</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end &amp; receive messages over the internet</a:t>
            </a:r>
            <a:endParaRPr b="0" lang="en-US" sz="2700" spc="-1" strike="noStrike">
              <a:solidFill>
                <a:srgbClr val="000000"/>
              </a:solidFill>
              <a:latin typeface="Georgia"/>
            </a:endParaRPr>
          </a:p>
        </p:txBody>
      </p:sp>
      <p:pic>
        <p:nvPicPr>
          <p:cNvPr id="611" name="Picture 5" descr="MCj04158580000[1]"/>
          <p:cNvPicPr/>
          <p:nvPr/>
        </p:nvPicPr>
        <p:blipFill>
          <a:blip r:embed="rId1"/>
          <a:stretch/>
        </p:blipFill>
        <p:spPr>
          <a:xfrm>
            <a:off x="2895480" y="2895480"/>
            <a:ext cx="3505320" cy="26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360"/>
            <a:ext cx="8534520" cy="987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b2627"/>
                </a:solidFill>
                <a:latin typeface="Neutraface Display Drafting"/>
              </a:rPr>
              <a:t>CHatting &amp; texting </a:t>
            </a:r>
            <a:endParaRPr b="0" lang="en-US" sz="3800" spc="-1" strike="noStrike">
              <a:solidFill>
                <a:srgbClr val="ab2627"/>
              </a:solidFill>
              <a:latin typeface="Georgia"/>
            </a:endParaRPr>
          </a:p>
        </p:txBody>
      </p:sp>
      <p:sp>
        <p:nvSpPr>
          <p:cNvPr id="650" name=""/>
          <p:cNvSpPr txBox="1"/>
          <p:nvPr/>
        </p:nvSpPr>
        <p:spPr>
          <a:xfrm>
            <a:off x="380520" y="1447920"/>
            <a:ext cx="8504280" cy="4876560"/>
          </a:xfrm>
          <a:prstGeom prst="rect">
            <a:avLst/>
          </a:prstGeom>
          <a:noFill/>
          <a:ln w="0">
            <a:noFill/>
          </a:ln>
        </p:spPr>
        <p:txBody>
          <a:bodyPr anchor="t">
            <a:normAutofit fontScale="97000"/>
          </a:bodyPr>
          <a:p>
            <a:pPr marL="264600" indent="-264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Neutraface Display Medium"/>
              </a:rPr>
              <a:t>Texting Online</a:t>
            </a:r>
            <a:endParaRPr b="0" lang="en-US" sz="2700" spc="-1" strike="noStrike">
              <a:solidFill>
                <a:srgbClr val="000000"/>
              </a:solidFill>
              <a:latin typeface="Georgia"/>
            </a:endParaRPr>
          </a:p>
          <a:p>
            <a:pPr marL="264600" indent="-26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   </a:t>
            </a:r>
            <a:r>
              <a:rPr b="0" lang="en-US" sz="2500" spc="-1" strike="noStrike">
                <a:solidFill>
                  <a:srgbClr val="000000"/>
                </a:solidFill>
                <a:latin typeface="Neutraface Display Medium"/>
              </a:rPr>
              <a:t>Is similar to texting using a cell phone but texts received can only be viewed once, then they are permanently deleted after being read. This is useful if you do not have a cell phone or will not be near your cell phone and need to communicate to another cell phone.</a:t>
            </a:r>
            <a:endParaRPr b="0" lang="en-US" sz="2500" spc="-1" strike="noStrike">
              <a:solidFill>
                <a:srgbClr val="000000"/>
              </a:solidFill>
              <a:latin typeface="Georgia"/>
            </a:endParaRPr>
          </a:p>
          <a:p>
            <a:pPr marL="264600" indent="-264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Neutraface Display Medium"/>
              </a:rPr>
              <a:t>Chatting</a:t>
            </a:r>
            <a:endParaRPr b="0" lang="en-US" sz="2700" spc="-1" strike="noStrike">
              <a:solidFill>
                <a:srgbClr val="000000"/>
              </a:solidFill>
              <a:latin typeface="Georgia"/>
            </a:endParaRPr>
          </a:p>
          <a:p>
            <a:pPr marL="264600" indent="-26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   </a:t>
            </a:r>
            <a:r>
              <a:rPr b="0" lang="en-US" sz="2500" spc="-1" strike="noStrike">
                <a:solidFill>
                  <a:srgbClr val="000000"/>
                </a:solidFill>
                <a:latin typeface="Neutraface Display Medium"/>
              </a:rPr>
              <a:t>This is real-time communication with no delay. Usually done with those you know online. Be selective who you chat with. As with spam and phishing, scams can occur with chatting as well.</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Important – Sign Out!</a:t>
            </a:r>
            <a:endParaRPr b="0" lang="en-US" sz="4000" spc="-1" strike="noStrike">
              <a:solidFill>
                <a:srgbClr val="ab2627"/>
              </a:solidFill>
              <a:latin typeface="Georgia"/>
            </a:endParaRPr>
          </a:p>
        </p:txBody>
      </p:sp>
      <p:pic>
        <p:nvPicPr>
          <p:cNvPr id="652" name="Picture 5" descr="MPj04226900000[1]"/>
          <p:cNvPicPr/>
          <p:nvPr/>
        </p:nvPicPr>
        <p:blipFill>
          <a:blip r:embed="rId1"/>
          <a:stretch/>
        </p:blipFill>
        <p:spPr>
          <a:xfrm>
            <a:off x="3059280" y="1527120"/>
            <a:ext cx="29876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ab2627"/>
                </a:solidFill>
                <a:latin typeface="Neutraface Display Drafting"/>
              </a:rPr>
              <a:t>What you need</a:t>
            </a:r>
            <a:endParaRPr b="0" lang="en-US" sz="3300" spc="-1" strike="noStrike">
              <a:solidFill>
                <a:srgbClr val="ab2627"/>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a computer with internet access</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an email account with a service provider such as Yahoo, Gmail, Hotmail, etc</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note: Microsoft Outlook and Apple Mail, are NOT email providers (which is why you can’t email from library computers without an account)</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2627"/>
                </a:solidFill>
                <a:latin typeface="Neutraface Display Drafting"/>
              </a:rPr>
              <a:t>Choosing an email provider</a:t>
            </a:r>
            <a:endParaRPr b="0" lang="en-US" sz="3600" spc="-1" strike="noStrike">
              <a:solidFill>
                <a:srgbClr val="ab2627"/>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Most common are Hotmail (Microsoft), Gmail (Google), Yahoo Mail (Yahoo!)</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For this class, we’ll be using Yahoo</a:t>
            </a:r>
            <a:endParaRPr b="0" lang="en-US" sz="2700" spc="-1" strike="noStrike">
              <a:solidFill>
                <a:srgbClr val="000000"/>
              </a:solidFill>
              <a:latin typeface="Georgia"/>
            </a:endParaRPr>
          </a:p>
        </p:txBody>
      </p:sp>
      <p:pic>
        <p:nvPicPr>
          <p:cNvPr id="616" name="Picture 5" descr="Yahoo! Mail">
            <a:hlinkClick r:id="rId1"/>
          </p:cNvPr>
          <p:cNvPicPr/>
          <p:nvPr/>
        </p:nvPicPr>
        <p:blipFill>
          <a:blip r:embed="rId2"/>
          <a:stretch/>
        </p:blipFill>
        <p:spPr>
          <a:xfrm>
            <a:off x="6477120" y="4876920"/>
            <a:ext cx="1923840" cy="247680"/>
          </a:xfrm>
          <a:prstGeom prst="rect">
            <a:avLst/>
          </a:prstGeom>
          <a:ln w="0">
            <a:noFill/>
          </a:ln>
        </p:spPr>
      </p:pic>
      <p:pic>
        <p:nvPicPr>
          <p:cNvPr id="617" name="Picture 6" descr=""/>
          <p:cNvPicPr/>
          <p:nvPr/>
        </p:nvPicPr>
        <p:blipFill>
          <a:blip r:embed="rId3"/>
          <a:stretch/>
        </p:blipFill>
        <p:spPr>
          <a:xfrm>
            <a:off x="3657600" y="4038480"/>
            <a:ext cx="1362240" cy="561960"/>
          </a:xfrm>
          <a:prstGeom prst="rect">
            <a:avLst/>
          </a:prstGeom>
          <a:ln w="0">
            <a:noFill/>
          </a:ln>
        </p:spPr>
      </p:pic>
      <p:pic>
        <p:nvPicPr>
          <p:cNvPr id="618" name="Picture 7" descr=""/>
          <p:cNvPicPr/>
          <p:nvPr/>
        </p:nvPicPr>
        <p:blipFill>
          <a:blip r:embed="rId4"/>
          <a:stretch/>
        </p:blipFill>
        <p:spPr>
          <a:xfrm>
            <a:off x="914400" y="3124080"/>
            <a:ext cx="1400040" cy="4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ab2627"/>
                </a:solidFill>
                <a:latin typeface="Neutraface Display Drafting"/>
              </a:rPr>
              <a:t>Setting up your email account</a:t>
            </a:r>
            <a:endParaRPr b="0" lang="en-US" sz="3400" spc="-1" strike="noStrike">
              <a:solidFill>
                <a:srgbClr val="ab2627"/>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Parts of an email address: dwalker@surfcity-hb.org</a:t>
            </a:r>
            <a:endParaRPr b="0" lang="en-US" sz="2700" spc="-1" strike="noStrike">
              <a:solidFill>
                <a:srgbClr val="000000"/>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user name : dwalker (you create your own) (each is unique)</a:t>
            </a:r>
            <a:endParaRPr b="0" lang="en-US" sz="2200" spc="-1" strike="noStrike">
              <a:solidFill>
                <a:srgbClr val="4f271c"/>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 symbol : unique to email addresses (Shift key + 2)</a:t>
            </a:r>
            <a:endParaRPr b="0" lang="en-US" sz="2200" spc="-1" strike="noStrike">
              <a:solidFill>
                <a:srgbClr val="4f271c"/>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email provider’s name: surfcity-hb (yours will be </a:t>
            </a:r>
            <a:r>
              <a:rPr b="1" lang="en-US" sz="2200" spc="-1" strike="noStrike">
                <a:solidFill>
                  <a:srgbClr val="4f271c"/>
                </a:solidFill>
                <a:latin typeface="Neutraface Display Medium"/>
              </a:rPr>
              <a:t>yahoo</a:t>
            </a:r>
            <a:r>
              <a:rPr b="0" lang="en-US" sz="2200" spc="-1" strike="noStrike">
                <a:solidFill>
                  <a:srgbClr val="4f271c"/>
                </a:solidFill>
                <a:latin typeface="Neutraface Display Medium"/>
              </a:rPr>
              <a:t>)</a:t>
            </a:r>
            <a:endParaRPr b="0" lang="en-US" sz="2200" spc="-1" strike="noStrike">
              <a:solidFill>
                <a:srgbClr val="4f271c"/>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domain : .org (yours will be </a:t>
            </a:r>
            <a:r>
              <a:rPr b="1" lang="en-US" sz="2200" spc="-1" strike="noStrike">
                <a:solidFill>
                  <a:srgbClr val="4f271c"/>
                </a:solidFill>
                <a:latin typeface="Neutraface Display Medium"/>
              </a:rPr>
              <a:t>.com</a:t>
            </a:r>
            <a:r>
              <a:rPr b="0" lang="en-US" sz="2200" spc="-1" strike="noStrike">
                <a:solidFill>
                  <a:srgbClr val="4f271c"/>
                </a:solidFill>
                <a:latin typeface="Neutraface Display Medium"/>
              </a:rPr>
              <a:t>)</a:t>
            </a:r>
            <a:endParaRPr b="0" lang="en-US" sz="2200" spc="-1" strike="noStrike">
              <a:solidFill>
                <a:srgbClr val="4f271c"/>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Password</a:t>
            </a:r>
            <a:endParaRPr b="0" lang="en-US" sz="4000" spc="-1" strike="noStrike">
              <a:solidFill>
                <a:srgbClr val="ab2627"/>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omething easy to remember, but difficult to guess</a:t>
            </a:r>
            <a:endParaRPr b="0" lang="en-US" sz="2700" spc="-1" strike="noStrike">
              <a:solidFill>
                <a:srgbClr val="000000"/>
              </a:solidFill>
              <a:latin typeface="Georgia"/>
            </a:endParaRPr>
          </a:p>
          <a:p>
            <a:pPr lvl="1" marL="547560" indent="-27288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Do NOT use sensitive information, such as SSN, bank PIN, etc.</a:t>
            </a:r>
            <a:endParaRPr b="0" lang="en-US" sz="2200" spc="-1" strike="noStrike">
              <a:solidFill>
                <a:srgbClr val="4f271c"/>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Usually a combination of letters and numbers is best</a:t>
            </a:r>
            <a:endParaRPr b="0" lang="en-US" sz="2700" spc="-1" strike="noStrike">
              <a:solidFill>
                <a:srgbClr val="000000"/>
              </a:solidFill>
              <a:latin typeface="Georgia"/>
            </a:endParaRPr>
          </a:p>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Verification questions in case you forget your passwor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240"/>
            <a:ext cx="853452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2627"/>
                </a:solidFill>
                <a:latin typeface="Neutraface Display Drafting"/>
              </a:rPr>
              <a:t>Let’s set up </a:t>
            </a:r>
            <a:br>
              <a:rPr sz="3600"/>
            </a:br>
            <a:r>
              <a:rPr b="0" lang="en-US" sz="3600" spc="-1" strike="noStrike">
                <a:solidFill>
                  <a:srgbClr val="ab2627"/>
                </a:solidFill>
                <a:latin typeface="Neutraface Display Drafting"/>
              </a:rPr>
              <a:t>our accounts!</a:t>
            </a:r>
            <a:endParaRPr b="0" lang="en-US" sz="3600" spc="-1" strike="noStrike">
              <a:solidFill>
                <a:srgbClr val="ab2627"/>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Let’s compose an email!</a:t>
            </a:r>
            <a:endParaRPr b="0" lang="en-US" sz="4000" spc="-1" strike="noStrike">
              <a:solidFill>
                <a:srgbClr val="ab2627"/>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lick on COMPO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b2627"/>
                </a:solidFill>
                <a:latin typeface="Neutraface Display Drafting"/>
              </a:rPr>
              <a:t>The parts of an email</a:t>
            </a:r>
            <a:endParaRPr b="0" lang="en-US" sz="4000" spc="-1" strike="noStrike">
              <a:solidFill>
                <a:srgbClr val="ab2627"/>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To : enter the exact email address of your recipient (remember: </a:t>
            </a:r>
            <a:r>
              <a:rPr b="0" lang="en-US" sz="2700" spc="-1" strike="noStrike" u="sng">
                <a:solidFill>
                  <a:srgbClr val="8dc765"/>
                </a:solidFill>
                <a:uFillTx/>
                <a:latin typeface="Neutraface Display Medium"/>
                <a:hlinkClick r:id="rId1"/>
              </a:rPr>
              <a:t>name@provider.domain</a:t>
            </a:r>
            <a:r>
              <a:rPr b="0" lang="en-US" sz="2700" spc="-1" strike="noStrike">
                <a:solidFill>
                  <a:srgbClr val="000000"/>
                </a:solidFill>
                <a:latin typeface="Neutraface Display Medium"/>
              </a:rPr>
              <a:t>)</a:t>
            </a:r>
            <a:endParaRPr b="0" lang="en-US" sz="2700" spc="-1" strike="noStrike">
              <a:solidFill>
                <a:srgbClr val="000000"/>
              </a:solidFill>
              <a:latin typeface="Georgia"/>
            </a:endParaRPr>
          </a:p>
          <a:p>
            <a:pPr lvl="1" marL="541800" indent="-270000">
              <a:lnSpc>
                <a:spcPct val="100000"/>
              </a:lnSpc>
              <a:spcBef>
                <a:spcPts val="550"/>
              </a:spcBef>
              <a:buClr>
                <a:srgbClr val="feb80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271c"/>
                </a:solidFill>
                <a:latin typeface="Neutraface Display Medium"/>
              </a:rPr>
              <a:t>For multiple recipients, separate each address with a comma</a:t>
            </a:r>
            <a:endParaRPr b="0" lang="en-US" sz="2200" spc="-1" strike="noStrike">
              <a:solidFill>
                <a:srgbClr val="4f271c"/>
              </a:solidFill>
              <a:latin typeface="Georgia"/>
            </a:endParaRPr>
          </a:p>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CC : carbon copy</a:t>
            </a:r>
            <a:endParaRPr b="0" lang="en-US" sz="2700" spc="-1" strike="noStrike">
              <a:solidFill>
                <a:srgbClr val="000000"/>
              </a:solidFill>
              <a:latin typeface="Georgia"/>
            </a:endParaRPr>
          </a:p>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BCC : BLIND carbon copy – is anonymous</a:t>
            </a:r>
            <a:endParaRPr b="0" lang="en-US" sz="2700" spc="-1" strike="noStrike">
              <a:solidFill>
                <a:srgbClr val="000000"/>
              </a:solidFill>
              <a:latin typeface="Georgia"/>
            </a:endParaRPr>
          </a:p>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Subject : the topic of your email – very important</a:t>
            </a:r>
            <a:endParaRPr b="0" lang="en-US" sz="2700" spc="-1" strike="noStrike">
              <a:solidFill>
                <a:srgbClr val="000000"/>
              </a:solidFill>
              <a:latin typeface="Georgia"/>
            </a:endParaRPr>
          </a:p>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Body : the message of your email</a:t>
            </a:r>
            <a:endParaRPr b="0" lang="en-US" sz="2700" spc="-1" strike="noStrike">
              <a:solidFill>
                <a:srgbClr val="000000"/>
              </a:solidFill>
              <a:latin typeface="Georgia"/>
            </a:endParaRPr>
          </a:p>
          <a:p>
            <a:pPr marL="270000" indent="-270000">
              <a:lnSpc>
                <a:spcPct val="100000"/>
              </a:lnSpc>
              <a:spcBef>
                <a:spcPts val="675"/>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Neutraface Display Medium"/>
              </a:rPr>
              <a:t>Attachments : the paperclip symbol - files or photo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41:11Z</dcterms:created>
  <dc:creator>RichardB</dc:creator>
  <dc:description/>
  <dc:language>en-US</dc:language>
  <cp:lastModifiedBy>Lia Hernandez</cp:lastModifiedBy>
  <dcterms:modified xsi:type="dcterms:W3CDTF">2010-05-10T16:09:03Z</dcterms:modified>
  <cp:revision>21</cp:revision>
  <dc:subject/>
  <dc:title>Email Basics</dc:title>
</cp:coreProperties>
</file>